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20BF-8008-4573-962B-22DD066FADB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3EF8-C7A6-4B87-815E-533E90373D6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E6AE-DE89-406E-86CD-65ECE677B13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35F2-0DA2-4026-80EE-6DD185EF5C9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85040" y="299880"/>
            <a:ext cx="738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Responsible Data Use; Presented 6 Dec 2011, AGU Data Management 101 for the Earth Scientis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ki.esipfed.org/index.php/Data_Management_Course_Outline" TargetMode="External"/><Relationship Id="rId3" Type="http://schemas.openxmlformats.org/officeDocument/2006/relationships/hyperlink" Target="http://wiki.esipfed.org/index.php/Data_Management_Resources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sidc.org/data/mod10a1v5.html" TargetMode="External"/><Relationship Id="rId2" Type="http://schemas.openxmlformats.org/officeDocument/2006/relationships/hyperlink" Target="http://nsidc.org/data/g02199.html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(or what should you do if you find yourself re-using someone else’s data)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provide feedback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vent other users from repeating your mistak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Improve the data or their document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tter science, perhaps even new results, papers, and collaborator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providing feedback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PI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our reasons for using someone else’s data are likely different than their reasons for acquiring it in the first pla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, they probably weren’t thinking of your needs when they acquired, documented and made it availabl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et, if they thought their data would be useful to a community they probably would be flattered to help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iplomacy and tact may be called for (especially if you really think you’ve found an error not just a documentation problem)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data center is almost always welcom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8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olar Information Commons ethics and norms for data sharing at http://www.polarcommons.org/ethics-and-norms-of-data-sharing.ph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training materials in development are availabl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iki.esipfed.org/index.php/Data_Management_Course_Outlin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short list of data management related resources available on the web can be found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iki.esipfed.org/index.php/Data_Management_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Your Responsibilities as a Data Us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645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suitability of data for your purpo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llowing applicable data access and use polic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iving credit to archives and data cre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the data source with feedback about any errors or limitations with the data discove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58720" y="3200040"/>
            <a:ext cx="116460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 “good” data, doesn’t mean that it is right for your projec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roll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n’t right for your project, doesn’t mean that it is “bad” data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Picture 3" descr=""/>
          <p:cNvPicPr/>
          <p:nvPr/>
        </p:nvPicPr>
        <p:blipFill>
          <a:blip r:embed="rId1"/>
          <a:stretch/>
        </p:blipFill>
        <p:spPr>
          <a:xfrm>
            <a:off x="2463840" y="109440"/>
            <a:ext cx="8077320" cy="961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nts for Determining Data Suitability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3800"/>
            <a:ext cx="11645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ad any papers, documentation and metadata provided – it is there for a reason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nsidc.org/data/mod10a1v5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fairly well documented data se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you still have questions, assess support availability and if acceptable ask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nsidc.org/data/g02199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poorly documented data set with an extremely low level of available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 aware that due to documentation and support limitations, the best data for your purposes may not be available to or usable by you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Picture 3" descr="MOD10A1.tiff"/>
          <p:cNvPicPr/>
          <p:nvPr/>
        </p:nvPicPr>
        <p:blipFill>
          <a:blip r:embed="rId3"/>
          <a:stretch/>
        </p:blipFill>
        <p:spPr>
          <a:xfrm>
            <a:off x="635040" y="0"/>
            <a:ext cx="11923560" cy="969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2" name="Picture 4" descr="DustCounts.tiff"/>
          <p:cNvPicPr/>
          <p:nvPr/>
        </p:nvPicPr>
        <p:blipFill>
          <a:blip r:embed="rId4"/>
          <a:stretch/>
        </p:blipFill>
        <p:spPr>
          <a:xfrm>
            <a:off x="482760" y="0"/>
            <a:ext cx="11999880" cy="975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data access and use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Content Placeholder 2"/>
          <p:cNvSpPr/>
          <p:nvPr/>
        </p:nvSpPr>
        <p:spPr>
          <a:xfrm>
            <a:off x="558720" y="2286000"/>
            <a:ext cx="11646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trend in many disciplines is towards greater data sharing, but…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rms vary by discipline (and country), for example you may need to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ubmit an application for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ign a data transfer and usage agreement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ravel to the repository to obtain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oreover there are legitimate reasons for restricting access, for example: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confidentiality of human subject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rights of local and traditional knowledge holder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information that if released may cause harm (e.g., location of endangered species, sacred sites, etc.)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  <a:ea typeface="ヒラギノ角ゴ ProN W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t is your responsibility to understand and follow the norms for the data your are using.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TextBox 1"/>
          <p:cNvSpPr/>
          <p:nvPr/>
        </p:nvSpPr>
        <p:spPr>
          <a:xfrm>
            <a:off x="605160" y="9296280"/>
            <a:ext cx="65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Helvetica Neue Light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Helvetica Neue Light"/>
              </a:rPr>
              <a:t> see IPY Data Policy at 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classic.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org/Subcommittees/final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data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polic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635040" y="2438280"/>
            <a:ext cx="11798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Would you really share your work if you thought others not going to give you credit?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o cite the data you use!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82400" y="2971440"/>
            <a:ext cx="11861640" cy="392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funding is scar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e the data you use, so that they continue to be available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No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urrently data citation standards and requirements v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journal to journ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repository to reposito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discipline to disciplin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me times from author to autho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 your best to honor these existing nor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at might a data citation look like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Zwally, H.J., R. Schutz, C. Bentley, J. Bufton, T. Herring, J. Minster, J. Spinhirne, and R. Thomas. 2003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GLAS/ICESat L1A Global Altimetry Data V018, 15 October to 18 November 2003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National Snow and Ice Data Center. Data set accessed 2011-07-21 at doi:10.3334/NSIDC/gla01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In the Near Futur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Cite and other groups are working to make data citation a normal part of the scientific proces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example, as of this year Thompson-Reuters Web of Science and Web of Knowledge include published data sets (i.e., that have a DOI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ESIP Federation is working on citation guidelines for both data producers and data user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ee http://wiki.esipfed.org/index.php/Interagency_Data_Stewardship/Ci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48:58Z</dcterms:created>
  <dc:creator/>
  <dc:description/>
  <cp:keywords/>
  <dc:language>en-US</dc:language>
  <cp:lastModifiedBy>Carol Meyer</cp:lastModifiedBy>
  <dcterms:modified xsi:type="dcterms:W3CDTF">2011-12-06T03:06:04Z</dcterms:modified>
  <cp:revision>75</cp:revision>
  <dc:subject/>
  <dc:title>ESIP Federation 101</dc:title>
</cp:coreProperties>
</file>